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4652-B97E-4CC8-8F31-6B9535520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E78F-7634-43DE-8284-A99EA5DB3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02E6-FAE0-42DA-AEE4-D1270EAC4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EF1B-1FCE-40FF-BF83-1CA528F67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1012-4D35-4981-A96D-E479984BB1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B068-98B3-4170-95A8-31A23722D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1C4E-5680-4ABC-A793-AB857AD80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9273-36A4-4267-B752-550BF6F9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6B83-E6F4-420C-A011-B7186DD1B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4654-1388-4E62-9DBB-0114D755F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3E7E-3FD6-4906-9252-94B0DE4BC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FCE5-FF7E-49F3-93C8-173B85CFA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283F-DD3C-46A7-8096-B7A9ED3314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ommended procedur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the total number of valence electrons (VSE) for the atoms (based on the column of the atom in the periodic table) and char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d one electrons for each negative charge; subtract one electron for each positive charg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H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524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+4+5-0 = 10 VSE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5 VS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524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(4)+6(1)+6-0 = 20 VSE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10 VS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Bold"/>
                <a:ea typeface="Arial Bold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old"/>
                <a:ea typeface="Arial Bold"/>
              </a:rPr>
              <a:t>2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524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+3(6)-(-2) = 24 VSE = </a:t>
            </a:r>
            <a:r>
              <a:rPr b="0" lang="en-US" sz="2000" spc="-1" strike="noStrike">
                <a:solidFill>
                  <a:srgbClr val="000000"/>
                </a:solidFill>
                <a:latin typeface="Arial Bold"/>
                <a:ea typeface="Arial Bold"/>
              </a:rPr>
              <a:t>12 VS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framework with single bonds. Some knowledge of the way the atoms are connected may be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ctets around all the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Note:  H only has one pai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Be only has two and B has three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9440" y="3416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3416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7280" y="45212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57880" y="45212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02200" y="4216320"/>
            <a:ext cx="30456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7624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421632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7624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130000" y="4419360"/>
            <a:ext cx="180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the number of  pairs of electrons depicted. If this number is less than the total, add electrons to the central atom until the total number of electrons is corr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7 pairs in the drawing and there should only be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419112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8862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8862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41972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160" y="3962520"/>
            <a:ext cx="18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886200"/>
            <a:ext cx="25275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Unshared pairs  are non-bonding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4114800"/>
            <a:ext cx="30456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Lewi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4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are extra pairs of electron in the drawing use lone-pairs (non- bonding pairs) to make double or triple bonds and reduce the total number of electron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H   C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wo unshared pairs = one bonded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524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9276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0884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92760" y="42926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51240" y="43434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29264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90840" y="45720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0600" y="414036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68760" y="45720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07640" y="415260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9768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70160" y="3813840"/>
            <a:ext cx="342360" cy="347760"/>
            <a:chOff x="3170160" y="3813840"/>
            <a:chExt cx="342360" cy="347760"/>
          </a:xfrm>
        </p:grpSpPr>
        <p:sp>
          <p:nvSpPr>
            <p:cNvPr id="79" name=""/>
            <p:cNvSpPr/>
            <p:nvPr/>
          </p:nvSpPr>
          <p:spPr>
            <a:xfrm rot="11340000">
              <a:off x="3192120" y="3835080"/>
              <a:ext cx="29844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1340000">
              <a:off x="3323160" y="3845160"/>
              <a:ext cx="166680" cy="304920"/>
            </a:xfrm>
            <a:prstGeom prst="pie">
              <a:avLst/>
            </a:prstGeom>
            <a:solidFill>
              <a:srgbClr val="95b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1340000">
              <a:off x="3346560" y="3836160"/>
              <a:ext cx="30240" cy="12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352680" y="411480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7840" y="54608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562720"/>
            <a:ext cx="22860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46084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59320"/>
            <a:ext cx="22860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13480" y="53208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353360" y="420336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31360" y="3732480"/>
            <a:ext cx="343440" cy="348120"/>
            <a:chOff x="6831360" y="3732480"/>
            <a:chExt cx="343440" cy="348120"/>
          </a:xfrm>
        </p:grpSpPr>
        <p:sp>
          <p:nvSpPr>
            <p:cNvPr id="90" name=""/>
            <p:cNvSpPr/>
            <p:nvPr/>
          </p:nvSpPr>
          <p:spPr>
            <a:xfrm rot="11340000">
              <a:off x="6853320" y="3754080"/>
              <a:ext cx="29952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1340000">
              <a:off x="6984720" y="3764160"/>
              <a:ext cx="167400" cy="304920"/>
            </a:xfrm>
            <a:prstGeom prst="pie">
              <a:avLst/>
            </a:prstGeom>
            <a:solidFill>
              <a:srgbClr val="95b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1340000">
              <a:off x="7008480" y="3755160"/>
              <a:ext cx="30240" cy="12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wis Structure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ewis Structure for the following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kutcher</dc:creator>
  <dc:description/>
  <dc:language>en-US</dc:language>
  <cp:lastModifiedBy/>
  <cp:revision>0</cp:revision>
  <dc:subject/>
  <dc:title>Lewis Structures and Molecular Geometry</dc:title>
</cp:coreProperties>
</file>